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7B3-8C78-49F8-B0BE-5B3F2CA8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012-C6C8-418A-9341-60D0627F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02F-37C7-42B7-9E3E-35F034A0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FE0-1671-45F5-AA98-9637903A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2E14-0AEB-4EF0-822B-3B1B8EA3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D05-B847-4BC4-B2E7-3EBBEC9F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B96-34AF-4C1A-8416-A790FE7D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007-FB54-493F-99B3-ECB58488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279-70FA-4B8C-8C47-C20F8460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4F3-88B0-43BF-BB6E-3539F58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0E8-C99E-43DA-AD73-7F3C9835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C1A-1003-4D72-9801-BBA088D0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c1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c1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CAAF-2479-453F-A6F8-E3DFF11315C8}" type="slidenum">
              <a:rPr b="0" lang="en-US" sz="1400" spc="-1" strike="noStrike">
                <a:solidFill>
                  <a:srgbClr val="5c1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5029200" y="9907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1400040" y="2852640"/>
            <a:ext cx="634392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c1f00"/>
                </a:solidFill>
                <a:latin typeface="Harlow Solid Italic"/>
              </a:rPr>
              <a:t>Researching the Issu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5c1f00"/>
              </a:solidFill>
              <a:latin typeface="Harlow Solid Italic"/>
              <a:ea typeface="Harlow Solid Italic"/>
            </a:endParaRPr>
          </a:p>
        </p:txBody>
      </p:sp>
      <p:pic>
        <p:nvPicPr>
          <p:cNvPr id="43" name="Rectangle 7" descr=""/>
          <p:cNvPicPr/>
          <p:nvPr/>
        </p:nvPicPr>
        <p:blipFill>
          <a:blip r:embed="rId1"/>
          <a:stretch/>
        </p:blipFill>
        <p:spPr>
          <a:xfrm>
            <a:off x="1676520" y="1047600"/>
            <a:ext cx="56023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child abuse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on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Googl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209680" y="1523880"/>
            <a:ext cx="44290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gneto"/>
              </a:rPr>
              <a:t>Web Path Expre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Google and World Book to locate information on the author of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the search query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Sharon M. Draper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ich tool provides the best results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How do you know which information source is credible?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fd2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a. www.walterdeanmyers.net/bio A brief biography of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ompare and Contrast the benefits of using a search engine, almanac and encyclopedia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2"/>
          <p:cNvSpPr/>
          <p:nvPr/>
        </p:nvSpPr>
        <p:spPr>
          <a:xfrm>
            <a:off x="609480" y="762120"/>
            <a:ext cx="8305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Almanacs contain statistics and facts.  They are published annually and are excellent resources to locate numerical data.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c1f00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Gerald and Angel are abused by their stepfather/father in </a:t>
            </a:r>
            <a:r>
              <a:rPr b="0" lang="en-US" sz="3200" spc="-1" strike="noStrike" u="sng">
                <a:solidFill>
                  <a:srgbClr val="5c1f00"/>
                </a:solidFill>
                <a:uFillTx/>
                <a:latin typeface="Arial"/>
              </a:rPr>
              <a:t>Forged By Fire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.  Their mother is for the most part a single parent.  Using the almanac identify the following: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KEYWORD “Children”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percentage of black children lived with both parents in 1970?  2007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1f00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1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1f00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http://www.worldbookonline.com/wb/Home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rime is a term that means something is against the law..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c1f00"/>
                </a:solidFill>
                <a:uFillTx/>
                <a:latin typeface="Arial"/>
              </a:rPr>
              <a:t>Forged By Fire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Paraphrase your answers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is child abuse? 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Identify five examples of child abuse.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0:59:18Z</dcterms:modified>
  <cp:revision>6</cp:revision>
  <dc:subject/>
  <dc:title>Slide 1</dc:title>
</cp:coreProperties>
</file>