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15C-F079-41DE-AAF1-111B52F8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4D2-6B80-430F-AABD-FC077D6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B2E-9C32-48E4-8D36-3D4A81A7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51A-1D74-4DEB-AF65-13333811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12A-B0B7-40B7-A916-0094D581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738-6D0E-440F-9AB9-A5D6046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50B-FDAB-4C4E-8829-FEA20A7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703-D655-4892-8EC3-EF967CAA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503-69F9-4DC7-9654-27232A10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CA2-AA66-4C23-BDE7-841ACEDA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94E-6EB4-4776-B2D9-8D3A48B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204-0129-4F9B-AC4E-09F20468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c1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EBD-D3B2-4A60-B73C-B69567723294}" type="slidenum">
              <a:rPr b="0" lang="en-US" sz="1400" spc="-1" strike="noStrike">
                <a:solidFill>
                  <a:srgbClr val="5c1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0292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1400040" y="2852640"/>
            <a:ext cx="634392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c1f00"/>
                </a:solidFill>
                <a:latin typeface="Harlow Solid Italic"/>
              </a:rPr>
              <a:t>Researching the Issu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5c1f00"/>
              </a:solidFill>
              <a:latin typeface="Harlow Solid Italic"/>
              <a:ea typeface="Harlow Solid Italic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676520" y="1047600"/>
            <a:ext cx="5602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child abuse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on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Googl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209680" y="1523880"/>
            <a:ext cx="44290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Web Path Exp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Google and World Book to locate information on the author of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the search query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Sharon M. Draper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ich tool provides the best results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How do you know which information source is credible?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a. www.walterdeanmyers.net/bio A brief biography of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ompare and Contrast the benefits of using a search engine, almanac and encyclopedia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609480" y="762120"/>
            <a:ext cx="8305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Almanacs contain statistics and facts.  They are published annually and are excellent resources to locate numerical data.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Gerald and Angel are abused by their stepfather/father in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  Their mother is for the most part a single parent.  Using the almanac identify the following: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KEYWORD “Children”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percentage of black children lived with both parents in 1970?  2007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http://www.worldbookonline.com/wb/Hom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rime is a term that means something is against the law..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araphrase your answer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child abuse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five examples of child abuse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0:59:18Z</dcterms:modified>
  <cp:revision>6</cp:revision>
  <dc:subject/>
  <dc:title>Slide 1</dc:title>
</cp:coreProperties>
</file>