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CAD-2326-49CD-9FB5-E61EB98B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CC0-DD91-41FC-9DF8-03DC397D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F38-5CB9-4CDF-8D6B-8008C923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79E-E538-4C62-8B6A-E2DADD10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31F-2597-40D1-916E-2993D589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162-A70F-41D1-856C-E29AE70B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58F-8A0B-4175-B03E-39255F92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B8F-D6F9-47AD-B9CE-FE28E2DB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5D8-4E48-4760-932C-FAB45F25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D66-938E-4717-909C-973251E7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63B-C395-42BF-AD28-63201257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1A2-5D1F-4145-A6E3-A942B5C0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E8D6-8877-41B9-9CA5-C8838E4767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alterdeanmyers.net/bio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ldbookonline.com/wb/Hom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paceball"/>
          <p:cNvPicPr/>
          <p:nvPr/>
        </p:nvPicPr>
        <p:blipFill>
          <a:blip r:embed="rId1"/>
          <a:stretch/>
        </p:blipFill>
        <p:spPr>
          <a:xfrm>
            <a:off x="2986200" y="1047600"/>
            <a:ext cx="3171600" cy="47628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1752480" y="19051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ff3300"/>
                </a:solidFill>
                <a:uFillTx/>
                <a:latin typeface="Gill Sans Ultra Bold"/>
              </a:rPr>
              <a:t>MONSTER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2895480" y="35812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iscovering Cr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ARCH ENGIN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used sources to locate information.  Popular search engines include Google, Ask and Yah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 include numerous sources and easily accessible webs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s include lack of credible sources and excessive res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eb Path Express Search Engin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the key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ri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Path Expr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results on Web Path Expr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results on World Book?  Differ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Web Path Express and World Book to locate information on the autho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n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search query Myers, Walter D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source provides the best information?  How do you know it is credi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371600" y="914400"/>
            <a:ext cx="6172200" cy="46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he best source to find out about the boyhood of Walter Dean My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www.walterdeanmyers.net/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rief biography of Walter Dean M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d Boy: A Memo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memoir of Walter Dean Myers’ child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“Myers, Walter Dean.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ld Book Online Reference 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encyclopedia entry about Walter Dean M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ich of the following would be the best source to identify the marital status of the U.S. Popul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an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yclop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371600" y="914400"/>
            <a:ext cx="617220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be the best search keyword(s) to research information on wind po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Alternativ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Wind Turb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Wind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W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Goals &amp; Objectiv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se an almanac to look up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xamine encyclopedia entries to find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mpare and Contrast the benefits of usian a search engine, almanac and encyclo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dentify the best research source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37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best place to locate inform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s it important to have a valid resource? Why or 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do we know which resource is good to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oes length or amount of resource mean that the resource is good to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Rectangle 5" descr=""/>
          <p:cNvPicPr/>
          <p:nvPr/>
        </p:nvPicPr>
        <p:blipFill>
          <a:blip r:embed="rId1"/>
          <a:stretch/>
        </p:blipFill>
        <p:spPr>
          <a:xfrm>
            <a:off x="682560" y="2419200"/>
            <a:ext cx="44625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762120" y="762120"/>
            <a:ext cx="81532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Arial"/>
              </a:rPr>
              <a:t>Almanacs contain statistics and facts.  They are published annually and are excellent resources to locate numerical dat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using an almanac it is best to start in the index or table of contents to locate inform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MANAC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state had the highest graduation rates during the 2004-05 school year?  The lowe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THE BEST KEYWOR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l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ather data for use in Steve Harmon’s trial which would be a good keyword to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rican Ameri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NCYCLOPED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s provide information in a concise format.  They are good for basic facts and to gather notable dat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s do not always have information on your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NCYCLOPEDIA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crime?  What are types of cr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worldbookonline.com/wb/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 is a term that means something is against the law.  Examples of crime include stealing a car, resisting arrest, murder, drunk driving and selling dru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MONST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murder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phrase your ans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9:21:25Z</dcterms:created>
  <dc:creator>Oklahoma City Public Schools</dc:creator>
  <dc:description/>
  <dc:language>en-US</dc:language>
  <cp:lastModifiedBy>Owner</cp:lastModifiedBy>
  <dcterms:modified xsi:type="dcterms:W3CDTF">2010-09-23T01:04:37Z</dcterms:modified>
  <cp:revision>4</cp:revision>
  <dc:subject/>
  <dc:title>Slide 1</dc:title>
</cp:coreProperties>
</file>