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6B1-E99F-411F-9BBE-E98EED08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32C-7E6A-4A87-9AD1-B10E354C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022-680A-4E73-866F-ACEB76A2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943-2DD1-4AA6-B0D3-3E70B8C4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23B-ADA6-4C76-8C93-AC8B52FE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3F8-99CA-4358-8950-9F8B79A9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8DD-3904-4B79-A508-D459271A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4E0-C90E-473A-8F82-DB10E535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8EE-9CC2-4CA9-A869-C178C62A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0E3-B39F-484C-BD63-D3BBCEC3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748-8B89-41C4-A606-F4E983F7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94A-1ACA-49AE-908A-E773A6A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E1FA-09FD-4879-99A5-D4D034DA1F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alterdeanmyers.net/bi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bookonline.com/wb/Hom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paceball"/>
          <p:cNvPicPr/>
          <p:nvPr/>
        </p:nvPicPr>
        <p:blipFill>
          <a:blip r:embed="rId1"/>
          <a:stretch/>
        </p:blipFill>
        <p:spPr>
          <a:xfrm>
            <a:off x="2986200" y="1047600"/>
            <a:ext cx="3171600" cy="4762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752480" y="19051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ff3300"/>
                </a:solidFill>
                <a:uFillTx/>
                <a:latin typeface="Gill Sans Ultra Bold"/>
              </a:rPr>
              <a:t>MONSTE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2895480" y="35812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iscovering Cr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i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Web Path Express and World Book to locate information on the autho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n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search query Myers, Walter D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ource provides the best information?  How do you know it is cred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walterdeanmyers.net/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rief biography of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pare and Contrast the benefits of usian a search engine, almanac and encyclo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37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Rectangle 5" descr=""/>
          <p:cNvPicPr/>
          <p:nvPr/>
        </p:nvPicPr>
        <p:blipFill>
          <a:blip r:embed="rId1"/>
          <a:stretch/>
        </p:blipFill>
        <p:spPr>
          <a:xfrm>
            <a:off x="682560" y="2419200"/>
            <a:ext cx="44625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762120" y="762120"/>
            <a:ext cx="81532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Almanacs contain statistics and facts.  They are published annually and are excellent resources to locate numerical dat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ather data for use in Steve Harmon’s trial which would be a good keyword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n Ameri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worldbookonline.com/wb/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 is a term that means something is against the law.  Examples of crime include stealing a car, resisting arrest, murder, drunk driving and selling dru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murde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phrase your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1:04:37Z</dcterms:modified>
  <cp:revision>4</cp:revision>
  <dc:subject/>
  <dc:title>Slide 1</dc:title>
</cp:coreProperties>
</file>