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784-B3A6-4B00-9529-74410B48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DA4-962A-4CBC-8A36-A4AEB31D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712-57C0-42E8-8703-62E91549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B5D-50D3-4754-86CD-A62ADD1B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DD1-6E88-4729-B2D9-F5674108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D6F-501A-40FA-A4CE-72BD1BBF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8A6-2D76-473A-9CDF-4834064F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F20-BE07-4F9D-B5D9-BEC7364A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914-D6F6-4227-AA3E-F31141E9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828-B9AC-4924-B643-802482AA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186-4FF1-490F-82F4-2D296A67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5E4-91F7-41D1-83F4-9CAFB8A3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c1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98A3-06FC-41FC-878B-E232862F5B0B}" type="slidenum">
              <a:rPr b="0" lang="en-US" sz="1400" spc="-1" strike="noStrike">
                <a:solidFill>
                  <a:srgbClr val="5c1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5029200" y="9907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1400040" y="2852640"/>
            <a:ext cx="634392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c1f00"/>
                </a:solidFill>
                <a:latin typeface="Harlow Solid Italic"/>
              </a:rPr>
              <a:t>Researching the Issu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5c1f00"/>
              </a:solidFill>
              <a:latin typeface="Harlow Solid Italic"/>
              <a:ea typeface="Harlow Solid Italic"/>
            </a:endParaRPr>
          </a:p>
        </p:txBody>
      </p:sp>
      <p:pic>
        <p:nvPicPr>
          <p:cNvPr id="43" name="Rectangle 7" descr=""/>
          <p:cNvPicPr/>
          <p:nvPr/>
        </p:nvPicPr>
        <p:blipFill>
          <a:blip r:embed="rId1"/>
          <a:stretch/>
        </p:blipFill>
        <p:spPr>
          <a:xfrm>
            <a:off x="1676520" y="1047600"/>
            <a:ext cx="56023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SEARCH ENGIN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e most used sources to locate information.  Popular search engines include Google, Ask and Yahoo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Advantages include numerous sources and easily accessible website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Disadvantages include lack of credible sources and excessive result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Web Path Express Search Engin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arch for the keyword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child abuse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on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eb Path Expres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Web Path Express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Googl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World Book?  Differenc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209680" y="1523880"/>
            <a:ext cx="44290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gneto"/>
              </a:rPr>
              <a:t>Web Path Expres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Google and World Book to locate information on the author of </a:t>
            </a:r>
            <a:r>
              <a:rPr b="0" lang="en-US" sz="32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the search query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Sharon M. Draper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ich tool provides the best results?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How do you know which information source is credible?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371600" y="914400"/>
            <a:ext cx="6172200" cy="468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fd2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Which of the following is the best source to find out about the boyhood of Walter Dean Myers?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a. www.walterdeanmyers.net/bio A brief biography of Walter Dean Myers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b.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Bad Boy: A Memoi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A memoir of Walter Dean Myers’ childhood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c. “Myers, Walter Dean.”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World Book Online Reference Cente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An encyclopedia entry about Walter Dean Myers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hich of the following would be the best source to identify the marital status of the U.S. Population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anac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be the best search keyword(s) to research information on wind power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lternative Energy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Wind Turbines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ind Energy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Wind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Goals &amp; Objectiv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an almanac to look up statistics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xamine encyclopedia entries to find informa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ompare and Contrast the benefits of using a search engine, almanac and encyclopedia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Identify the best research source for informa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is the best place to locate information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Is it important to have a valid resource? Why or why not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do we know which resource is good to us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Does length or amount of resource mean that the resource is good to us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2"/>
          <p:cNvSpPr/>
          <p:nvPr/>
        </p:nvSpPr>
        <p:spPr>
          <a:xfrm>
            <a:off x="609480" y="762120"/>
            <a:ext cx="8305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1f00"/>
                </a:solidFill>
                <a:latin typeface="Arial"/>
              </a:rPr>
              <a:t>Almanacs contain statistics and facts.  They are published annually and are excellent resources to locate numerical data. </a:t>
            </a: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1f00"/>
                </a:solidFill>
                <a:latin typeface="Arial"/>
              </a:rPr>
              <a:t>When using an almanac it is best to start in the index or table of contents to locate information </a:t>
            </a: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ALMANAC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 had the highest graduation rates during the 2004-05 school year?  The lowest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THE BEST KEYWORD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ou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loma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Gerald and Angel are abused by their stepfather/father in </a:t>
            </a:r>
            <a:r>
              <a:rPr b="0" lang="en-US" sz="32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.  Their mother is for the most part a single parent.  Using the almanac identify the following: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KEYWORD “Children”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percentage of black children lived with both parents in 1970?  2007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ENCYCLOPEDI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ncyclopedias provide information in a concise format.  They are good for basic facts and to gather notable data.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ncyclopedias do not always have information on your topic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ENCYCLOPEDIA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is crime?  What are types of crim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http://www.worldbookonline.com/wb/Hom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rime is a term that means something is against the law..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Paraphrase your answer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at is child abuse?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Identify five examples of child abuse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21:25Z</dcterms:created>
  <dc:creator>Oklahoma City Public Schools</dc:creator>
  <dc:description/>
  <dc:language>en-US</dc:language>
  <cp:lastModifiedBy>Owner</cp:lastModifiedBy>
  <dcterms:modified xsi:type="dcterms:W3CDTF">2010-09-23T00:59:18Z</dcterms:modified>
  <cp:revision>6</cp:revision>
  <dc:subject/>
  <dc:title>Slide 1</dc:title>
</cp:coreProperties>
</file>