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4BF-D314-41A5-BB9B-C5D1C5A3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3A2-3856-4240-8565-78471ABB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114-983B-4F3E-A330-2579931D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450-6EEB-448B-BFA2-57CE32FA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B02-F8E2-4ABF-BF45-F60342DB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938-72F1-46B2-AEBE-F598789A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AED-EF71-4114-8832-CEB3DFD1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5C3-2423-4929-A978-01DA9110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69C-E160-4B68-BA3F-09C505FC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439-405A-4546-925A-0F8F529A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F3B-80E7-4397-84CF-23B29892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7B1-CB6C-4658-B975-8D65D14B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4E6D-7603-47EC-B44E-1BB1046CC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alterdeanmyers.net/bi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bookonline.com/wb/Hom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aceball"/>
          <p:cNvPicPr/>
          <p:nvPr/>
        </p:nvPicPr>
        <p:blipFill>
          <a:blip r:embed="rId1"/>
          <a:stretch/>
        </p:blipFill>
        <p:spPr>
          <a:xfrm>
            <a:off x="2986200" y="1047600"/>
            <a:ext cx="3171600" cy="4762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752480" y="19051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ff3300"/>
                </a:solidFill>
                <a:uFillTx/>
                <a:latin typeface="Gill Sans Ultra Bold"/>
              </a:rPr>
              <a:t>MONSTE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895480" y="35812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iscovering Cr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i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Web Path Express and World Book to locate information on the autho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search query Myers, Walter D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ource provides the best information?  How do you know it is cred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walterdeanmyers.net/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rief biography of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pare and Contrast the benefits of usian a search engine, almanac and 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37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5" descr=""/>
          <p:cNvPicPr/>
          <p:nvPr/>
        </p:nvPicPr>
        <p:blipFill>
          <a:blip r:embed="rId1"/>
          <a:stretch/>
        </p:blipFill>
        <p:spPr>
          <a:xfrm>
            <a:off x="682560" y="2419200"/>
            <a:ext cx="44625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762120" y="762120"/>
            <a:ext cx="81532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Almanacs contain statistics and facts.  They are published annually and are excellent resources to locate numerical dat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ather data for use in Steve Harmon’s trial which would be a good keyword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Amer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worldbookonline.com/wb/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 is a term that means something is against the law.  Examples of crime include stealing a car, resisting arrest, murder, drunk driving and selling dru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urd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your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1:04:37Z</dcterms:modified>
  <cp:revision>4</cp:revision>
  <dc:subject/>
  <dc:title>Slide 1</dc:title>
</cp:coreProperties>
</file>