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4B8-BE7B-461F-9F04-4BE31323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779-861E-4D2A-BF32-106E6C8E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C19-836A-4B76-93B0-63E0F838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B2C-D4EB-4E81-9EB3-4AB10C62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B8E-E0CE-4D6F-AC87-FF79D4D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195-7BBD-4813-982E-9441FB0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9B3-3B14-40E8-8CC2-A8B1807A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79F-DF1F-4F4C-AA62-45BF2474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297-1080-4A81-AD37-F31F180B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BEB-CE29-4FAD-B0B7-9420BD32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777-E16A-474E-8BE0-F7DC4A0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BBC-D6BD-4374-9F22-A73421C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B793-7C0C-434F-A7CB-5E8E086C86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lterdeanmyers.net/bi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bookonline.com/wb/Hom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ceball"/>
          <p:cNvPicPr/>
          <p:nvPr/>
        </p:nvPicPr>
        <p:blipFill>
          <a:blip r:embed="rId1"/>
          <a:stretch/>
        </p:blipFill>
        <p:spPr>
          <a:xfrm>
            <a:off x="2986200" y="1047600"/>
            <a:ext cx="3171600" cy="476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752480" y="1905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Gill Sans Ultra Bold"/>
              </a:rPr>
              <a:t>MONS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895480" y="3581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covering Cr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Web Path Express and World Book to locate information on the autho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earch query Myers, Walter D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ource provides the best information?  How do you know it is cred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walterdeanmyers.net/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rief biography of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pare and Contrast the benefits of usian a search engine, almanac and 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4462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762120" y="762120"/>
            <a:ext cx="8153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Almanacs contain statistics and facts.  They are published annually and are excellent resources to locate numerical da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ather data for use in Steve Harmon’s trial which would be a good keyword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worldbookonline.com/wb/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is a term that means something is against the law.  Examples of crime include stealing a car, resisting arrest, murder, drunk driving and selling dru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urd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1:04:37Z</dcterms:modified>
  <cp:revision>4</cp:revision>
  <dc:subject/>
  <dc:title>Slide 1</dc:title>
</cp:coreProperties>
</file>