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88E-5D49-4C35-BCDA-B293A515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A87-6215-4EC0-9F04-14448B8A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900-CAB8-45CD-AB2E-87D81787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118-2FF0-4A60-B009-E323FDD2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BBB-171F-44B5-B332-79995B16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996-368E-45F5-B115-BD87682D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6F6-4CF6-44C9-839F-8484BD3B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E0B-ED83-4DA6-A35B-FD477B3F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0D9-7E23-4FA4-AE19-9BF7182B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E8E-0BAB-4B98-AC9C-474C133C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3A3-E5AA-42DD-A777-3FE80308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F7C-6AEC-491C-9F19-3BB61DB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175F-EE31-436F-B2C2-11EFA6D736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alterdeanmyers.net/bi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bookonline.com/wb/Hom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paceball"/>
          <p:cNvPicPr/>
          <p:nvPr/>
        </p:nvPicPr>
        <p:blipFill>
          <a:blip r:embed="rId1"/>
          <a:stretch/>
        </p:blipFill>
        <p:spPr>
          <a:xfrm>
            <a:off x="2986200" y="1047600"/>
            <a:ext cx="3171600" cy="4762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1752480" y="19051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ff3300"/>
                </a:solidFill>
                <a:uFillTx/>
                <a:latin typeface="Gill Sans Ultra Bold"/>
              </a:rPr>
              <a:t>MONSTE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2895480" y="35812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iscovering Cr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ARCH ENGIN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used sources to locate information.  Popular search engines include Google, Ask and Yah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include numerous sources and easily accessible webs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s include lack of credible sources and excessive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eb Path Express Search Engin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the key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ri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Path Exp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results on Web Path Expr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results on World Book? 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Web Path Express and World Book to locate information on the autho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n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search query Myers, Walter D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ource provides the best information?  How do you know it is credi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371600" y="914400"/>
            <a:ext cx="6172200" cy="46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he best source to find out about the boyhood of Walter Dean My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walterdeanmyers.net/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rief biography of Walter Dean M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d Boy: A Mem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emoir of Walter Dean Myers’ child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“Myers, Walter Dean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ld Book Online Reference 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encyclopedia entry about Walter Dean M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ich of the following would be the best source to identify the marital status of the U.S. Popul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an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best search keyword(s) to research information on wind po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Alternativ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ind Turb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Wi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Goals &amp; Objecti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 an almanac to look up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xamine encyclopedia entries to fi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pare and Contrast the benefits of usian a search engine, almanac and encyclo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dentify the best research source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37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best place to locate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s it important to have a valid resource? 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do we know which resource is good to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es length or amount of resource mean that the resource is good to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Rectangle 5" descr=""/>
          <p:cNvPicPr/>
          <p:nvPr/>
        </p:nvPicPr>
        <p:blipFill>
          <a:blip r:embed="rId1"/>
          <a:stretch/>
        </p:blipFill>
        <p:spPr>
          <a:xfrm>
            <a:off x="682560" y="2419200"/>
            <a:ext cx="44625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762120" y="762120"/>
            <a:ext cx="81532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Arial"/>
              </a:rPr>
              <a:t>Almanacs contain statistics and facts.  They are published annually and are excellent resources to locate numerical dat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using an almanac it is best to start in the index or table of contents to locate inform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MANAC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state had the highest graduation rates during the 2004-05 school year?  The low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HE BEST KEYWOR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l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ather data for use in Steve Harmon’s trial which would be a good keyword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ican Ameri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CYCLOPE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s provide information in a concise format.  They are good for basic facts and to gather notable dat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s do not always have information on your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CYCLOPEDIA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crime?  What are types of cr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worldbookonline.com/wb/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 is a term that means something is against the law.  Examples of crime include stealing a car, resisting arrest, murder, drunk driving and selling dru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murder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phrase your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21:25Z</dcterms:created>
  <dc:creator>Oklahoma City Public Schools</dc:creator>
  <dc:description/>
  <dc:language>en-US</dc:language>
  <cp:lastModifiedBy>Owner</cp:lastModifiedBy>
  <dcterms:modified xsi:type="dcterms:W3CDTF">2010-09-23T01:04:37Z</dcterms:modified>
  <cp:revision>4</cp:revision>
  <dc:subject/>
  <dc:title>Slide 1</dc:title>
</cp:coreProperties>
</file>