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177-1915-4D8B-98C8-D23C362E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2FD-CAFA-4B3C-B6F9-A4AD493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8B1-678B-44A8-876B-F223CFF2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B4D-6621-44BC-BD49-D0FED45B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A70-E1A2-4156-BA22-1180CE88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E2D-12F5-4A6E-8C77-BC493344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B30-8DC4-4D82-9C33-81DC22F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EA3-E764-46AE-AEB9-E2EDB8E0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24C-7674-44CC-B09C-BE7F3CC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128-F780-451E-B969-A071BECF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823-B21A-4D12-8C67-278905C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6FE-978E-4227-B2D4-E2278B1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5C2-375A-45C1-BDE5-1AEC5479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685800" y="121932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Sharon Draper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alter Dean Myers’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onducted literature circles and discussions in collaboration with Media Spec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Specialist conducted information literacy lessons regarding topics of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33520" y="121932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y kept a journal and read the book with the understanding that they would be ju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id not participate in literature circles.  They were engaged in the novel, but missed many opportunities to disc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685800" y="129528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emonstrated engagement and a deeper understanding of the no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were engaged in the novel and could discuss the plot and emotions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137160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tudent response to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ents finished 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rastically increased requests for sequel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participated in another round of literature circles.  Each group read a different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914400" y="1828800"/>
            <a:ext cx="7162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0% of students were on free/reduced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was on the state needs improvement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students were reluctant readers and below grade level in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85800" y="12193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vels were of high interest to the student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covered included: crime, guilt, innocence, child abuse,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Literac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0948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, Summarizing, Direct Quotations, C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overview: encyclopedia, almanac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Literac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AS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38080" y="152388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1: Inquire, think critically, and gain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Find, evaluate, and select appropriate sources to answer ques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Dis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emonstrate creativity by using multiple resourc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 copyright/intellectual property rights of creators and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4: Pursue personal and aesthet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Self 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wn ability to select resources that are engaging and appropriate for personal interests an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80880" y="1447920"/>
            <a:ext cx="35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literature circl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952880" y="1371600"/>
            <a:ext cx="358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a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and paraphrasing using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instruction using topics related to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thly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57200" y="1295280"/>
            <a:ext cx="81532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present book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determine what reading will take place in the classroom and outside the classroom in order to meet curriculum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observe literature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research skills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summarizing, paraphrasing, quotation and citation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09480" y="1752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udents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2 – 3 times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change at each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33520" y="1447920"/>
            <a:ext cx="7467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Leader – Facilitate discussion and provide a summary o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Lookout – Locate figurative language within the text and explain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Warrior – Find word(s) within the text that are new or unfamiliar and use context clues to determine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 – Summarize part of the passage through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1:12:51Z</dcterms:created>
  <dc:creator>Owner</dc:creator>
  <dc:description/>
  <dc:language>en-US</dc:language>
  <cp:lastModifiedBy>Owner</cp:lastModifiedBy>
  <dcterms:modified xsi:type="dcterms:W3CDTF">2010-10-07T12:27:27Z</dcterms:modified>
  <cp:revision>12</cp:revision>
  <dc:subject/>
  <dc:title>Background</dc:title>
</cp:coreProperties>
</file>