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1D4-E5E6-4D5E-91C3-1253A845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2CF-72D1-408B-9069-092A4BD2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670-F11D-48D6-99FB-C46BA916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7B5-F65A-4B1C-BEBE-50553A20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4FF-B851-452E-8C5D-D393E7CC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BD95-ADB7-40D6-98DA-2117B247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F16-EE38-4AF4-84A8-EFD4CF70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F66-3ED5-463D-8C73-F2DAE173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184-2159-4FDC-AEB2-436FE952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C1B-B143-41D9-8CD9-D4192885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B95-AC45-497A-AC0A-C188DA0B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A97-BD31-48A0-862A-6406DDCD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4E82-E461-4CA1-85D9-574DDAA37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685800" y="121932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read Sharon Draper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ged by Fi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alter Dean Myers’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conducted literature circles and discussions in collaboration with Media Specia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Specialist conducted information literacy lessons regarding topics of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533520" y="1219320"/>
            <a:ext cx="75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rea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ey kept a journal and read the book with the understanding that they would be ju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did not participate in literature circles.  They were engaged in the novel, but missed many opportunities to disc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685800" y="129528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demonstrated engagement and a deeper understanding of the no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were engaged in the novel and could discuss the plot and emotions of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457200" y="137160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student response to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udents finished 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drastically increased requests for sequels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ged by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participated in another round of literature circles.  Each group read a different 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914400" y="1828800"/>
            <a:ext cx="71629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90% of students were on free/reduced lu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was on the state needs improvement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students were reluctant readers and below grade level in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685800" y="1219320"/>
            <a:ext cx="6858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vels were of high interest to the student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 covered included: crime, guilt, innocence, child abuse, negl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Literacy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609480" y="160020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ing, Summarizing, Direct Quotations, C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 overview: encyclopedia, almanac,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formation Literacy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PAS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838080" y="1523880"/>
            <a:ext cx="746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1: Inquire, think critically, and gain knowle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. Find, evaluate, and select appropriate sources to answer ques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Dispos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 Demonstrate creativity by using multiple resources and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ect copyright/intellectual property rights of creators and produc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4: Pursue personal and aesthetic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Self Assess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own ability to select resources that are engaging and appropriate for personal interests and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80880" y="1447920"/>
            <a:ext cx="358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literature circle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952880" y="1371600"/>
            <a:ext cx="3581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dia Speci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ing and paraphrasing using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 instruction using topics related to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thly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57200" y="1295280"/>
            <a:ext cx="81532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Specialist will present book t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nd Media Specialist will determine what reading will take place in the classroom and outside the classroom in order to meet curriculum dead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nd Media Specialist will observe literature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Specialist will conduct research skills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Specialist will conduct summarizing, paraphrasing, quotation and citation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Cir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609480" y="1752480"/>
            <a:ext cx="739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students p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2 – 3 times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 change at each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Circle R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533520" y="1447920"/>
            <a:ext cx="74674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Leader – Facilitate discussion and provide a summary of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Lookout – Locate figurative language within the text and explain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Warrior – Find word(s) within the text that are new or unfamiliar and use context clues to determine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or – Summarize part of the passage through a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1:12:51Z</dcterms:created>
  <dc:creator>Owner</dc:creator>
  <dc:description/>
  <dc:language>en-US</dc:language>
  <cp:lastModifiedBy>Owner</cp:lastModifiedBy>
  <dcterms:modified xsi:type="dcterms:W3CDTF">2010-10-07T12:27:27Z</dcterms:modified>
  <cp:revision>12</cp:revision>
  <dc:subject/>
  <dc:title>Background</dc:title>
</cp:coreProperties>
</file>