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F18-DF4E-47C5-B5CB-B62E7319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C0A-56DB-4E90-B889-D4248FEC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F8F-2F5F-4723-895F-C505B08D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09B-A9A2-4171-82DA-CAC8BF98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089-AACC-4EC6-92F4-B9C7B38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472-369D-4D68-A4FB-443D7378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E19-3C1F-4CE6-9AB6-901D5218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1AF-1772-4F85-A9F4-EEDA4906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1E-01FC-4FF9-8CE6-F20D656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C1C-94A3-4507-9DB5-81337EE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8E8-D72C-4574-8D1F-1436EF2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276-7BE6-4C8A-B2F4-3E3304C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153-8E8B-459A-A3A0-28B4958FE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685800" y="121932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Sharon Draper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lter Dean Myers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onducted literature circles and discussions in collaboration with Media Spec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pecialist conducted information literacy lessons regarding topics of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2193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r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kept a journal and read the book with the understanding that they would be ju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id not participate in literature circles.  They were engaged in the novel, but missed many opportunities to disc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685800" y="12952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emonstrated engagement and a deeper understanding of the no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were engaged in the novel and could discuss the plot and emotion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137160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tudent response to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finished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drastically increased requests for sequel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ged by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tudents participated in another round of literature circles.  Each group read a differen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914400" y="1828800"/>
            <a:ext cx="7162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students were on free/reduced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was on the state needs improvement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students were reluctant readers and below grade level i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85800" y="12193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vels were of high interest to the student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covered included: crime, guilt, innocence, child abuse,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Literac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948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, Summarizing, Direct Quotations, C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overview: encyclopedia, almanac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Literac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AS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38080" y="152388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1: Inquire, think critically, and gain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Find, evaluate, and select appropriate sources to answer ques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Dis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emonstrate creativity by using multiple resourc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copyright/intellectual property rights of creators and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4: Pursue personal and aesthet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Self 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wn ability to select resources that are engaging and appropriate for personal interest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80880" y="1447920"/>
            <a:ext cx="35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literature circ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952880" y="1371600"/>
            <a:ext cx="358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and paraphrasing using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 instruction using topics related to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hl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1295280"/>
            <a:ext cx="81532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present book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determine what reading will take place in the classroom and outside the classroom in order to meet curriculum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d Media Specialist will observe literature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research skills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Specialist will conduct summarizing, paraphrasing, quotation and citation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752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udents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2 – 3 times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change at eac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33520" y="1447920"/>
            <a:ext cx="7467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Leader – Facilitate discussion and provide a summary 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Lookout – Locate figurative language within the text and expl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Warrior – Find word(s) within the text that are new or unfamiliar and use context clues to determine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 – Summarize part of the passage through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1:12:51Z</dcterms:created>
  <dc:creator>Owner</dc:creator>
  <dc:description/>
  <dc:language>en-US</dc:language>
  <cp:lastModifiedBy>Owner</cp:lastModifiedBy>
  <dcterms:modified xsi:type="dcterms:W3CDTF">2010-10-07T12:27:27Z</dcterms:modified>
  <cp:revision>12</cp:revision>
  <dc:subject/>
  <dc:title>Background</dc:title>
</cp:coreProperties>
</file>